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2162-6C33-499E-BCF0-5C4F7BE8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8ED7-B39D-49BB-80FA-5C107DCA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0653-FFE1-4DCD-B4B2-E9032108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E04-AAF7-47B4-A5D6-E10FB94C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12CD-8112-448A-B1A6-6850C174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1F1B-FCE5-4C2D-8C02-089145C9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982E-55DE-4CA4-85D4-424CDA3D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90FC-CFA7-4573-9D80-5CCB92B2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D984-6BD8-4D9A-99C9-138EF5E6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F805-1F4A-4C9C-8B50-48312D48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4DDD-193C-46B1-B041-5E6C9177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A152-97A5-4641-A1DB-605DF37E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F66E-01F9-48B1-8E45-6EAD5CD7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D74E-B55D-43F8-BF81-137D62F8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3F97-23FC-4CBD-A8F4-0EAE5A71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47D8-991E-4279-8211-7C0602CD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2038-9234-45BB-AE72-B29DD906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E4FC-1737-4131-83B5-EBE4A905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8B62-D056-43E3-987B-58F07891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2EF-47AC-41FA-85E3-1E3181E2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FE2-266B-46D1-B9C0-836251E1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9BE6-1878-4F98-9067-95FDCB98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8F5-B5BB-459E-B8C5-23538BB1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AD8-454F-4A76-9AB5-6B1F4004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395C-CB4E-43F2-B0C1-290E994D7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C49C-67A7-42B2-A1F8-A1DE7FDA7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uatro formas de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soci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polí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administrat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) El modo de ser aristocrát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..Cúmulo de creencias, de valores, de categorías, de conocimiento, en suma de significados construidos por esta clase a partir de su experiencia histórica y que, una vez cristalizados en la consecuencia de sus miembros, identifica su comportamiento”. (Barros y Vergara, 1978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Sui especifico “modo de ser” operó en dos direccione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i) hacia dentro dio a los miembros de los grupos oligárquicos una base conjunta de significados compartidos que les permitió identificarse como iguales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ii) hacia fuera condicionó las formas como interpretaron la realidad de su época, y sobre todo, se enfrentaron con ell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orría la primera década del siglo XX cuando el entonces Presidente Pedro Montt saludó en un telegrama a su colega argentino Roque Sáenz Peña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“… </a:t>
            </a: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a nombre del Gobierno, la sociedad y pueblo chileno”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La respuesta recibida era, sin embargo, solo “… a nombre del Gobierno y pueblo argentino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6760" y="304920"/>
            <a:ext cx="83581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b) Gobierno, “sociedad”, pueblo </a:t>
            </a: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población chilena del siglo XIX y comienzos del XX se encontraba irreconociliablemente divid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os grupos oligárquicos habían logrado desarrollar un sentido de conjunto, autoidentifiándose como “la sociedad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resto de la población, dispersa en los campos y en los suburbios de las ciudades, era difuminada en categorías como “pueblo”, “muchedumbr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b) Gobierno, “sociedad”, pueblo </a:t>
            </a: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l resto de la población no se le tendrá significativamente en cuenta en el quehacer de “la sociedad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ueblo” no era mucho más que el nombre genérico dado a una de las formas que asumía lo exterior, al interior del propio territor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 respecto a ese exterior se actuará por exclusión: social, en un nivel; política, administrativa y legal en otr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c) Características (1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“buen tono” como forma de vida y la interpretación de las relaciones con el exterior provoco la desvinculación de la oligarquía de los demás sectores socia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interpretación de las relaciones con el exterior genero una comprensión de las relaciones laborales en términos de vinculo mora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o anterior tenia su origen en la forma como era concebido el “pueblo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c) Características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pueblo era valorado por su condición de servidor y las características que esa condición suponía: sumisión, lealtad, disponibilidad al trabajo y honradez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ero a la vez era visto como alguien que en cualquier momento podía sucumbir a su naturaleza inferior y ahí era entonces sanguinario, brutal, borracho, supersticioso,  deprav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Síntesi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exclusión social, cimentada sobre situaciones históricas de larga data de privilegio económico, caracterizo la forma de relaciones entre la “sociedad” y el “pueblo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ella se manifestaba toda la indiferencia que los aristócratas sentían por los “rotos”; al punto que los llego a ignorar y, por lo mismo, a ser indolente ante su situ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“modo de ser” aristocrático será el mecanismo de bloque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24T13:05:57Z</dcterms:modified>
  <cp:revision>24</cp:revision>
  <dc:subject/>
  <dc:title>La compleja herencia del siglo XIX</dc:title>
</cp:coreProperties>
</file>